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70F8-3CA5-40DA-9855-EAF9CD8DF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2DC6-1D68-45C2-8AB2-D89EA9608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4F40-1D31-4B60-AEED-8167073CF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20FB-3AF4-49DD-929D-6CEA4E456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7CF1-06DA-4600-A471-94BFC4589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E9A7-5AB2-4743-9EEA-C30C092D5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DAA1-8E6D-4947-BFAA-D2CA738DA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B852-4DB1-42A7-8F17-8802D00D0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368B-B9E1-4401-BEDE-EC45EBF00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7AB3-3A1A-4DBD-AB17-D589F720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4487-86E3-4160-BA4C-9ABC84D02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BC7A-D3B3-4985-B0C9-20874F22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2E3E4-5F65-40F4-AEB4-BA74C1EF60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5360" y="838080"/>
            <a:ext cx="491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’re in NY and are trying to flag down a ca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hance of catching a cab on your street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% per minute of standing there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324480" y="228600"/>
            <a:ext cx="2619360" cy="17431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00760" y="3048120"/>
            <a:ext cx="8022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the probability that you will still be there aft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 1 minut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. 2 min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 What is the probability that you caught a cab in the 2nd minu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) What is the probability that you didn’t catch a cab in the 2nd minu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62120" y="0"/>
            <a:ext cx="657864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84320" y="533520"/>
            <a:ext cx="8959680" cy="17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219320" y="2514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219320" y="1371240"/>
            <a:ext cx="129528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22160" y="106668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98120" y="2300400"/>
            <a:ext cx="406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50960" y="1782720"/>
            <a:ext cx="1014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= 0.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60600" y="2590920"/>
            <a:ext cx="10065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S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= 0.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87640" y="2514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987640" y="1371240"/>
            <a:ext cx="129528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290480" y="106668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366440" y="2300400"/>
            <a:ext cx="406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47280" y="1752480"/>
            <a:ext cx="12045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|S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= 0.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33240" y="2590920"/>
            <a:ext cx="12823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S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| S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= 0.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429800" y="1981080"/>
            <a:ext cx="1199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P(S</a:t>
            </a:r>
            <a:r>
              <a:rPr b="0" lang="en-US" sz="12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S</a:t>
            </a:r>
            <a:r>
              <a:rPr b="0" lang="en-US" sz="12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) = 9/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22240" y="762120"/>
            <a:ext cx="12074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P(S</a:t>
            </a:r>
            <a:r>
              <a:rPr b="0" lang="en-US" sz="12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C</a:t>
            </a:r>
            <a:r>
              <a:rPr b="0" lang="en-US" sz="12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) = 3/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47880" y="487440"/>
            <a:ext cx="1014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P(C</a:t>
            </a:r>
            <a:r>
              <a:rPr b="0" lang="en-US" sz="12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) = 4/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3792600"/>
            <a:ext cx="8610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the probability that you will still be there aft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 1 minute?  </a:t>
            </a: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3/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. 2 minutes? </a:t>
            </a: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9/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 What is the probability that you caught a cab in the 2nd minute? </a:t>
            </a: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3/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) What is the probability that you didn’t catch a cab in the 2nd minute? </a:t>
            </a: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13/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00600" y="2514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48600" y="762120"/>
            <a:ext cx="928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(C</a:t>
            </a:r>
            <a:r>
              <a:rPr b="0" lang="en-US" sz="1200" spc="-1" strike="noStrike" baseline="-25000">
                <a:solidFill>
                  <a:srgbClr val="cc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) = 1/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78680" y="3002040"/>
            <a:ext cx="921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(S</a:t>
            </a:r>
            <a:r>
              <a:rPr b="0" lang="en-US" sz="1200" spc="-1" strike="noStrike" baseline="-25000">
                <a:solidFill>
                  <a:srgbClr val="cc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) = 3/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0" y="304920"/>
            <a:ext cx="4219560" cy="25812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80880" y="609480"/>
            <a:ext cx="4038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Jones family has 2 parents, 4 kids, 2 cats, 3 dogs. 5 people/animals go on a walk. It is known that at least 1 parent went and at least 1 pet went. How many different scenarios are there for who w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208240" y="1523880"/>
            <a:ext cx="160164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9880" y="1523880"/>
            <a:ext cx="22860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08240" y="2209680"/>
            <a:ext cx="160164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09880" y="2209680"/>
            <a:ext cx="22860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87840" y="457200"/>
            <a:ext cx="529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,P2   K1,K2,K3,K4   C1,C2,D1,D2,D3  (11 tota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441160" y="108108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anim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17320" y="1066680"/>
            <a:ext cx="129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0 anim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46720" y="167652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pa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63920" y="2362320"/>
            <a:ext cx="126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0 pa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9120" y="3276720"/>
            <a:ext cx="51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1: total – [(0P,0A) + (&gt;0P,0A) + (0P,&gt;0A)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5160" y="3595680"/>
            <a:ext cx="635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c5 – [0 + 6c5 + 9c5]     =     462 – [0 + 6 + 126]      =     3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9280" y="4191120"/>
            <a:ext cx="563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2:  (&gt;0P, &gt;0A)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P,4A,0K) + (1P,3A,1K) + (1P,2A,2K) + (1P,1A,3K)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P,3A,0K) + (2P,2A,1K) + (2P,1A,2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951440" y="2209680"/>
            <a:ext cx="14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12400" y="236232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pa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961520" y="236232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pa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40000" y="5378400"/>
            <a:ext cx="810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c1)*(5c4)*(4c0) + (2c1)*(5c3)*(4c1) + (2c1)*(5c2)*(4c2) + (2c1)*(5c1)*(4c3)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c2)*(5c3)*(4c0) + (2c2)*(5c2)*(4c1) + (2c2)*(5c1)*(4c2) =   3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1924200"/>
            <a:ext cx="914400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8458200" cy="46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447920" y="0"/>
            <a:ext cx="643248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534160" cy="47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143000" y="4648320"/>
            <a:ext cx="7010280" cy="19508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62120" y="152280"/>
            <a:ext cx="647676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00:54:30Z</dcterms:created>
  <dc:creator>Ben</dc:creator>
  <dc:description/>
  <dc:language>en-US</dc:language>
  <cp:lastModifiedBy>Ben</cp:lastModifiedBy>
  <dcterms:modified xsi:type="dcterms:W3CDTF">2010-11-24T06:29:23Z</dcterms:modified>
  <cp:revision>56</cp:revision>
  <dc:subject/>
  <dc:title>Slide 1</dc:title>
</cp:coreProperties>
</file>